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breeze.wav" ContentType="audio/x-wav"/>
  <Override PartName="/ppt/media/image8.jpeg" ContentType="image/jpeg"/>
  <Override PartName="/ppt/media/whoosh.wav" ContentType="audio/x-wav"/>
  <Override PartName="/ppt/media/explode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chimes.wav" ContentType="audio/x-wav"/>
  <Override PartName="/ppt/media/image12.png" ContentType="image/png"/>
  <Override PartName="/ppt/media/image7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18A-7F08-43F2-9971-E112148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5D1-DC3C-47DE-AFBF-2894C9AD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64A-F340-4A7B-9FE4-D063CBCA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E41-0DE9-4579-8A88-1F0138CA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8A3D-AB14-4FFC-845D-A60391BA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C2D3-F13F-41FE-8493-5951197C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F31F-D040-4F48-BC8A-53BE5C15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3E0B-2E57-4EBC-ABBC-507404B4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E3BE-CA62-4F2F-B3E7-DEA21D16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93C-7399-4CF5-9E03-68FB2664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A1FA-B607-40A9-94C0-A1BF5223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18CC-F531-4590-9A16-60C5C06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0135-492C-47F8-9FA6-BB502E4A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206A-BAB9-4055-9869-3CCE9FA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96AB-3190-4DA3-92A4-0729613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1B21-8CF3-4B05-B435-7E498F1B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2B10-B6E1-43C1-810B-F18786C1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4521-B174-48B9-868C-226B312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312-B4D3-44CF-9706-1B2688F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A77-4C3B-40CD-B116-7CE6AA1B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7DD9-A4BA-460A-BCFB-60D8C0B3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A88B-9688-4A39-946B-3F715E9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16F-B31F-48F3-BDB6-6DA220BB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5B0-C718-4668-AFC7-2A32A658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9BC-1C00-4D32-80C2-71AAF8C5C948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BE52-F76F-4C4F-9CE2-D30C5F5F9663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tset.com.tw/images/man%20with%20question%20mark.gi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rawbooks.com/123_draw_series/73-images/07_04.gif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Comic Sans MS"/>
              </a:rPr>
              <a:t>Mini Lesson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Comic Sans MS"/>
              </a:rPr>
              <a:t>Lesson on 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06800" y="3733920"/>
            <a:ext cx="109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 you understand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 hope you understand this writing technique a little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re are several different stations that you will have to go to and show your proficienc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prepared to go to the differ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tions moving your car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use your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ime wisel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complete the 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heckli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o that you know where you’ve been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43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Beverly Cleary’s Wor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095560"/>
            <a:ext cx="5638680" cy="2705040"/>
          </a:xfrm>
          <a:prstGeom prst="wedgeRoundRectCallout">
            <a:avLst>
              <a:gd name="adj1" fmla="val 49462"/>
              <a:gd name="adj2" fmla="val 71773"/>
              <a:gd name="adj3" fmla="val 16667"/>
            </a:avLst>
          </a:prstGeom>
          <a:noFill/>
          <a:ln w="158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63844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inutes crawled by. The long Oregon dusk turned into night.  The girls turned on the television set to a program about people in a hospital . . .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574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do you think Beverly Cleary meant when she said that the minutes crawled by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2860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n you imagine minutes crawling across our classroom floor?  Too Sill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3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Ramona Forever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went by so slowly for Ramona and her sister that they thought the minutes where crawling.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4724280"/>
          <a:ext cx="1479600" cy="14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24280"/>
                    <a:ext cx="14796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666880" y="4114800"/>
            <a:ext cx="5562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verly Cleary was using a writing technique called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5562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personific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ersonification is when you describe nonliving things by using human actions or emo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es this fancy word mea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809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ill confused?  Don’t worry – let’s look at some examples to help understand personification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3280" y="4419720"/>
            <a:ext cx="1168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3429000"/>
            <a:ext cx="6553440" cy="220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un Danc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un danced across the sky on the hot summer day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429000"/>
            <a:ext cx="1524240" cy="13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655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he sun really dance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Motion origin="layout" path="M 3.33333E-006 -4.44444E-006 C -0.00087 0.11413 -0.00157 0.22825 -0.03212 0.23218 C -0.06268 0.23612 -0.14011 0.02362 -0.18386 0.02362 C -0.22761 0.02362 -0.25643 0.22894 -0.29514 0.23218 C -0.33386 0.23542 -0.37674 0.0419 -0.41615 0.04306 C -0.45556 0.04422 -0.49045 0.24584 -0.53212 0.23866 C -0.57379 0.23149 -0.61997 0.11575 -0.66615 -4.44444E-006 E">
                                      <p:cBhvr>
                                        <p:cTn id="148" dur="5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Pencil Scream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pencil screamed as the boy turned the handle on the pencil sharpener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0" y="3962520"/>
            <a:ext cx="1512720" cy="2209680"/>
            <a:chOff x="2286000" y="3962520"/>
            <a:chExt cx="1512720" cy="2209680"/>
          </a:xfrm>
        </p:grpSpPr>
        <p:pic>
          <p:nvPicPr>
            <p:cNvPr id="114" name="" descr="cartoon pencil"/>
            <p:cNvPicPr/>
            <p:nvPr/>
          </p:nvPicPr>
          <p:blipFill>
            <a:blip r:embed="rId1"/>
            <a:stretch/>
          </p:blipFill>
          <p:spPr>
            <a:xfrm>
              <a:off x="2286000" y="3962520"/>
              <a:ext cx="1512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895480" y="5029200"/>
              <a:ext cx="30492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48" y="120"/>
                    <a:pt x="96" y="240"/>
                    <a:pt x="144" y="240"/>
                  </a:cubicBezTo>
                  <a:cubicBezTo>
                    <a:pt x="192" y="240"/>
                    <a:pt x="240" y="120"/>
                    <a:pt x="288" y="0"/>
                  </a:cubicBezTo>
                </a:path>
              </a:pathLst>
            </a:custGeom>
            <a:noFill/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9880" y="3581280"/>
            <a:ext cx="2514600" cy="914400"/>
          </a:xfrm>
          <a:prstGeom prst="wedgeEllipseCallout">
            <a:avLst>
              <a:gd name="adj1" fmla="val -45263"/>
              <a:gd name="adj2" fmla="val 100000"/>
            </a:avLst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AHHHH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800600"/>
            <a:ext cx="3733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pencil ever scream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Old Car Groan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old car groaned as it made its way down the long open road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0720" y="3371760"/>
            <a:ext cx="4190760" cy="2571840"/>
            <a:chOff x="990720" y="3371760"/>
            <a:chExt cx="4190760" cy="25718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990720" y="4286160"/>
              <a:ext cx="2438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124080" y="3371760"/>
              <a:ext cx="20574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I can’t make it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520" y="3962520"/>
            <a:ext cx="3124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car ever groan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44583 -0.00139 E">
                                      <p:cBhvr>
                                        <p:cTn id="199" dur="84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trawberry Spok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trawberries seemed to say, "Eat me first!"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93040" y="3429000"/>
            <a:ext cx="1636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164040" y="3505320"/>
            <a:ext cx="2743200" cy="1752480"/>
            <a:chOff x="3164040" y="3505320"/>
            <a:chExt cx="2743200" cy="1752480"/>
          </a:xfrm>
        </p:grpSpPr>
        <p:sp>
          <p:nvSpPr>
            <p:cNvPr id="128" name=""/>
            <p:cNvSpPr/>
            <p:nvPr/>
          </p:nvSpPr>
          <p:spPr>
            <a:xfrm>
              <a:off x="3164040" y="3505320"/>
              <a:ext cx="2743200" cy="1752480"/>
            </a:xfrm>
            <a:prstGeom prst="wedgeEllipseCallout">
              <a:avLst>
                <a:gd name="adj1" fmla="val 78819"/>
                <a:gd name="adj2" fmla="val 42208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44920" y="38862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d0d"/>
                  </a:solidFill>
                  <a:latin typeface="Arial"/>
                </a:rPr>
                <a:t>Eat me first – I am yummy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" y="4952880"/>
            <a:ext cx="3429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strawberries really talk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1:07:09Z</dcterms:created>
  <dc:creator>Lynn Medea</dc:creator>
  <dc:description/>
  <dc:language>en-US</dc:language>
  <cp:lastModifiedBy>Jamison Renfro</cp:lastModifiedBy>
  <dcterms:modified xsi:type="dcterms:W3CDTF">2007-11-13T01:59:40Z</dcterms:modified>
  <cp:revision>21</cp:revision>
  <dc:subject/>
  <dc:title>PowerPoint Presentation</dc:title>
</cp:coreProperties>
</file>